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463-3383-4F4D-B9F8-6D628FA8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45C-3A0E-41B9-AC83-CA9C6CFB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063-C3C2-47F1-A896-0E639FD1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D8D-E03C-4A01-B481-D8382C78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9C3D8-0033-4F58-89D1-C8520552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7BD3-D101-46E0-84D8-97F093C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8D564-A114-4E32-90EF-EB6D7B6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51231-EF18-4587-A07A-7C17E33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88B51-8DA5-43D9-AD43-3B377E0B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A0D07-F975-41A8-8671-5192FA5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A363-B912-4BC3-9E06-73811612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0CA-2079-4F20-A9CD-63A5B63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DE83E-2831-4272-A1C7-86E29B5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4BB59-4C83-4E71-B579-FC60E63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66FA-62CA-47E5-BC3C-8C52CC8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65C9C-D5EE-41C2-956E-0E302490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692A7-0CDB-4929-9E50-F0991CB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02BC-FD42-4E9D-9A1D-DD71FA7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6C8E-4616-487F-A7FB-3B7FF15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5740-4553-49DE-BEEB-D6D3723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81AB-3001-4753-AF27-69EF0AA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9DDB-E6AD-4545-AB48-0CB78A7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642-042E-48AC-B3DC-44469C90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A50E-80CA-411E-B955-8D2C9087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DAAC-0B3D-4EF7-A56B-5AAB1D3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0485-F7A7-4547-A23B-CD20ECA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61C1-AF36-4C0C-8498-1DDF603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3ABC-F125-49D4-9410-11BE1E9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C41A-336B-4349-97DF-5F0E1F8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0BA2-4665-445C-A52B-7EB7E6B2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F64-11E7-4EC7-99D7-3565F98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DC1-F243-4974-89F9-3B616560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C0D-2FD8-416B-A818-BD017B5F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D3A-3C35-4BD7-AB71-215B45F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EA9-E054-47D4-8C7A-F3D6352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B69-497B-470F-8A75-1577BF0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DFD3-7184-422F-936E-2290091E3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56A-520F-4D89-A03E-E6F5F77B5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FF2-A7F6-4477-B724-33107B268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Effects of Classroom Seating Arrangements 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-Task Behavior and Academic 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By Danielle Ste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EDUC 702.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all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Theorists and Supporters of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row sea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McCorskey &amp; MCVetta, 1978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k orientation is improv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Raviv, Raviv &amp; Reisel, 1990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45943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S: Arguments Supporting Cluster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ideal for socially facilitated learn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Patton, Snell, Knight &amp; Florman 200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promotes “innov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like each other more and communicate better when fa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O’Hare, 1998; Bovard, 1951)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4950000"/>
            <a:ext cx="289584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: Arguments Against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seating impedes a teachers ability to walk between student desks and assess lea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Weaver Dunne, 200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ment of the 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1: Changing the seating arrangement from cluster seating to paired columns over a four week period will increase the on-task behavior of 24 common branch second grade students at PS X during math class, and lead to increased scores on math assess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icip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wo second grade common branch classes in the NYCBO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hree Unit T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 surv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1: To be given to both classes prior to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2: To be given to both classes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3: To be given only to class one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nus, M., &amp; Riordan, L. (199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creasing student on-task behavior through the use of specific seating arrangemen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PS026868).  Chicago, IL: Saint Xavier University.  (ERIC Document Reproduction Service No. ED422129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vard, E. Jr. (1951, Nov). The psychology of classroom interactio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Journal of Educational Research, 45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15-224.  Retrieved October 4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urke, K., &amp; Burke-Samide, B. (2004, July-August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quired changes in the classroom environment: It’s a matter of design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maica, New York: Clearing House.  (ERIC Document Reproduction Service No. EJ70544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lahan, R.  (1962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 and the cult of efficiency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Chicago, IL: The University of Chicago pres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hurch, S.  (2004).  Learning Styles.  Message posted to http://www.teresadybvig.com/learnsty.ht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R. (1990, Octob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ita Dunn answers questions on learning style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Jamaica, NY: Educational Leadership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J416423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K, &amp; Dunn, R. (1975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, teaching style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NASSP Bulletin,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59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7-49.  Retrieved October, 25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lorman, J.  (Fall, 2003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Psychological &amp; quantitative foundations: Researching classroom seating arrangements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ctober 4, 2009, from The University of Iowa, College of Education Web site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ducation.uiowa.edu/edatiowa/fall03/department/pandq/index.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astings, N., &amp; Schwieso, J. (1995, December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asks and tables: The effects of seating arrangements on task eng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 primary classroom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Nottingham, UK: Department of Primary Education. (ERIC Document Reproduction Service No. EJ51437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oneya, M. (1976, January 1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ocation and interaction in row-and-column seating arrangement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nvironment and Behavior, 8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265-282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ackney, J., &amp; Jacobs, P. (2002, Januar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achers as placemakers: Investigating teachers' use of the physical learning environment in instructional design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EF006078).  (ERIC Document Reproduction Service No. ED46364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: Unblock your true potential. (n.d.).  Retrieved October 4, 2009, fr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learningstyles.net/index.php?option=com_content&amp;task=view&amp;id=20&amp;Itemid=70&amp;lang=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cCroskey, J. C., &amp; MCVetta, R. W. (1978).  Classroom seating arrangements: Instruc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munication theory versus student preferences [Electronic version]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ommunication Education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99-111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’Hare, M. (Autumn, 1998). Classroom design for discussion-based teaching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ournal of Policy Analysis a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Management, 1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4), 706-72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atton, J., Snell, J., Knight, W., &amp; Gerken, K. (2001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 survey study of elementary classroom sea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esign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40068).  Washington, DC: National Association of School Psychologis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D454194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roshansky, E., &amp; Wolfe, M.  (August, 1974).  The physical setting and open education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School Review, 8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56-574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aviv, A., Raviv, A., &amp; Reisel, E. (1990, Spring). Teachers and students: Two different perspectives?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easuring social climate in the classroom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1), 141-15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hards, J. (2006, Wint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tting the Stage for Student Engagement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appa Delta Pi Record.  (ERIC Document Reproduction Service No. EJ72464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dling, Z. (1994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effects of three seating arrangements on teachers' use  of selective interactive verb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behavior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35202).  New Orleans, LA: American Educational Research Association.  (ERIC Document Reproduction Service No. ED369757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lverstein, H., &amp; Stang, D. J. (June, 1976).  Seating position and interaction in triads: A field stud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ociometry, 3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166-17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si, F. D. (July, 1989). The physical environment of art classrooms: A basis for effective discipline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, 4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37-43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nnarka, R., &amp; Ruhl, K. (200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ating arrangements that promote positive academic and behavioural outcomes: 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mpirical research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Oxford, UK: Support for Learning.  (ERIC Document Reproduction Service No. EJ793728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aver Dunne, D. (2001, April 4).  Do seating arrangements and assignments classroom management?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World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Retrieved October 4, 2009, from http://www.education-world.com/a_curr/curr330.s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7, Summer).  Modifying student behavior in an open classroom through changes in the physic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ig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, 14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49-262.  Retrieved October 4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9, Fall). The physical environment of the school: A review of the research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duca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search, 4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77-610. Retrieved September 23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A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prior to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Probl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Review of Related Litera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Hypo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articipa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Instru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Experimental 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B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C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 better than group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groups better than row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ferenc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-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endi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ement of th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 X has adopted cluster seating for all classrooms, 100% of the school day.  Independent math practice at PS X is complicated by off-task behavior and would benefit from a less distracting seating arrangement, such as paired colum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8018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Importance of Seating Arrange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cause of off-task behavior is classroom seating arran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onus &amp; Riordan, 1998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m arrangement affects the  learning process, student behavior, and student enga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Florman, 2003; Lackney &amp; Jacobs, 2002; Proshansky &amp; Wolfe, 1974; Richards, 2006; Strong-Wilson &amp; Ellis, 2007; Susi, 1989; Weinstein, 1977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9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5240160"/>
            <a:ext cx="1600200" cy="13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task behavior increases with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Hastings &amp; Schwieso, 1995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orderliness and clear views of the teach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learners prefer to learn alone or with one part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urke &amp; Burke-Samide, 2004; Church, 2004; Dunn &amp; Dunn, 1975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style is 60% biologi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Dunn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w seating reduces tal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oneya, 1976; Ridling, 1994; Silverstein &amp; Stang, 1976; Wannarka &amp; Ruhl, 2008; Weinstein, 1979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1900’s the business model entered the American education system based on the German model of efficienc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Callehan, 1962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954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Problems With Cluster Seat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roximity increases likelihood of off-task convers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Koneya, 1976; Ridling, 1994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4853160"/>
            <a:ext cx="2106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22:55:40Z</dcterms:created>
  <dc:creator>Danielle Steger</dc:creator>
  <dc:description/>
  <dc:language>en-US</dc:language>
  <cp:lastModifiedBy>Danielle Steger</cp:lastModifiedBy>
  <dcterms:modified xsi:type="dcterms:W3CDTF">2009-12-16T07:00:05Z</dcterms:modified>
  <cp:revision>110</cp:revision>
  <dc:subject/>
  <dc:title>The Effect of Classroom Seating Arrangements on On-Task Behavior and Academic Performance</dc:title>
</cp:coreProperties>
</file>